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EFF-C2E8-4B84-B28F-F1D92D59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D45-55DD-4470-833E-7C33E4B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73C-BFFF-406A-9714-BBF47ABC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538-D0B7-49DB-9DA1-C7B12D4D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E16-8342-486A-AB8A-8C942CD5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365-6187-4921-BA70-9D41AF9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AA5-6D40-48FB-B6BA-FAE3F22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A58-9E16-4165-8E2B-3ACDCAA5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E53-CF71-4A59-90D8-6C30AA0A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17E-339C-4263-B155-E351E89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3F8-68CF-47C8-99AC-81CC0794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174-AAAD-43A2-AB5E-20964C91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F001-FF83-46EE-A532-4F841A008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t’s an enormous, fierce, bloodthirsty creature appearing in fairy tales and legends with brave knights who are always challenging him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641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86200" y="1828800"/>
            <a:ext cx="5257800" cy="398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8088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Everybody kn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hat a dragon is: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In the world of fantastic animals, the dragon is uniqu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85784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o other creature has appeared in such a rich variety of forms. It is as though there was once a whole family of different dragon species that really existed, before they mysteriously became extin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5943600" cy="63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4846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-31680"/>
            <a:ext cx="8458200" cy="688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37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595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Legends describe dragons as large, lizard-like creatures that breathe fire and hav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long, scaly tail.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927000"/>
            <a:ext cx="251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ragon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is a legendary beast in the folklore of many European and Asian cul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3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21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-12600"/>
            <a:ext cx="7467840" cy="687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3809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In Europe, dragons are traditionally portrayed as ferocious beasts that represent the evils fought by human be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401472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ut in Asia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, especially in China and Japa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e animals are generally considered friendly creatures that ensure good luck and w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62320" y="1447920"/>
            <a:ext cx="498168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ragons lived in wild, remote regions of the world. The dragons guarded treasures in their dens, and a person who killed one supposedly gained its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73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7360" y="0"/>
            <a:ext cx="86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According to some medieval lege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38095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n China, the traditional New Year's Day parade includes a group of people who wind through the street wearing a large dragon costume. The dragon's image, according to an ancient Chinese belief, prevents evil spirits from spoiling the new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9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373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Another traditional Chinese belief is that certain dragons have the power to control the rainfall needed for each year's harv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6920" y="0"/>
            <a:ext cx="54370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However the dragon is also something else. He is admirable, intelligent and educated creature, who leads a most interesting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400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19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He has some fascinating characteristics in addition to those occasional glimpses we are given through fairy tail and lege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08520" y="914400"/>
            <a:ext cx="523548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04:13:47Z</dcterms:created>
  <dc:creator>HCPS</dc:creator>
  <dc:description/>
  <dc:language>en-US</dc:language>
  <cp:lastModifiedBy>Patrick J. Mooney</cp:lastModifiedBy>
  <dcterms:modified xsi:type="dcterms:W3CDTF">2011-02-01T15:15:19Z</dcterms:modified>
  <cp:revision>42</cp:revision>
  <dc:subject/>
  <dc:title>PowerPoint Presentation</dc:title>
</cp:coreProperties>
</file>